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28B-F030-41B7-BCB7-F3521DAD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B54-B71C-4C83-994D-75951A6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8C1-24D0-47E3-9CA4-BAFC4A91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8BE-BE78-4C7F-9DF5-15AC98D0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67F-A2F3-4E80-BF0F-C30D644D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0B0-0E84-41F1-ADE4-72866610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ECC-B163-4B7A-BD30-DCE2E37C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E54-94FA-4B18-A568-E94DF61E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CAF-43E7-4236-8B34-9FC94167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101-0F89-4178-AB10-81C0CA8A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CFB-0939-45CA-8C9E-D8C48F93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A98-87B6-4F90-AA48-C302BB3F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244C-0964-429B-AF51-7A9F58B97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77240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63852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1520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467480" cy="49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j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762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62940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y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9099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c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133880" cy="55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867280" cy="543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5:25:28Z</dcterms:created>
  <dc:creator>netadmin8</dc:creator>
  <dc:description/>
  <dc:language>en-US</dc:language>
  <cp:lastModifiedBy>netadmin8</cp:lastModifiedBy>
  <dcterms:modified xsi:type="dcterms:W3CDTF">2011-10-12T15:47:44Z</dcterms:modified>
  <cp:revision>3</cp:revision>
  <dc:subject/>
  <dc:title>Continent</dc:title>
</cp:coreProperties>
</file>